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C97-C58C-467A-BE53-2B6B4A8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3A2-D79E-4C4C-8627-A6EF669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0A6-429F-4DE3-B487-5B9A3F6C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AF7-187C-42C9-9860-9CAAF073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DD8-B23A-468B-B864-9C1D3C0D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124-9CC5-4A93-8674-AA423A8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712-B483-43C3-B028-549E6982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D72-2D61-4151-ACE1-631DE640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372-D35E-49CD-AB67-1E004D19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C36-6115-4C0A-B7E8-376BA010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862-5FE0-440B-B907-82B73CF5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008-7CCF-4F44-9E5B-5F18B885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9..jpg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11" descr="17..png"/>
          <p:cNvPicPr/>
          <p:nvPr/>
        </p:nvPicPr>
        <p:blipFill>
          <a:blip r:embed="rId3"/>
          <a:stretch/>
        </p:blipFill>
        <p:spPr>
          <a:xfrm>
            <a:off x="-6480" y="-6480"/>
            <a:ext cx="1054080" cy="6870960"/>
          </a:xfrm>
          <a:prstGeom prst="rect">
            <a:avLst/>
          </a:prstGeom>
          <a:ln w="0">
            <a:noFill/>
          </a:ln>
        </p:spPr>
      </p:pic>
      <p:grpSp>
        <p:nvGrpSpPr>
          <p:cNvPr id="2" name="Прямоугольник 7"/>
          <p:cNvGrpSpPr/>
          <p:nvPr/>
        </p:nvGrpSpPr>
        <p:grpSpPr>
          <a:xfrm>
            <a:off x="109440" y="-6480"/>
            <a:ext cx="8925120" cy="6907320"/>
            <a:chOff x="109440" y="-6480"/>
            <a:chExt cx="8925120" cy="6907320"/>
          </a:xfrm>
        </p:grpSpPr>
        <p:pic>
          <p:nvPicPr>
            <p:cNvPr id="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09440" y="-6480"/>
              <a:ext cx="892512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95280" y="260280"/>
              <a:ext cx="835344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Рисунок 16" descr="18..png"/>
          <p:cNvPicPr/>
          <p:nvPr/>
        </p:nvPicPr>
        <p:blipFill>
          <a:blip r:embed="rId5"/>
          <a:stretch/>
        </p:blipFill>
        <p:spPr>
          <a:xfrm>
            <a:off x="0" y="0"/>
            <a:ext cx="2133720" cy="5372280"/>
          </a:xfrm>
          <a:prstGeom prst="rect">
            <a:avLst/>
          </a:prstGeom>
          <a:ln w="0">
            <a:noFill/>
          </a:ln>
        </p:spPr>
      </p:pic>
      <p:sp>
        <p:nvSpPr>
          <p:cNvPr id="6" name="TextBox 17"/>
          <p:cNvSpPr/>
          <p:nvPr/>
        </p:nvSpPr>
        <p:spPr>
          <a:xfrm>
            <a:off x="250920" y="658188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Bookman Old Style"/>
              </a:rPr>
              <a:t>© </a:t>
            </a:r>
            <a:r>
              <a:rPr b="1" i="1" lang="ru-RU" sz="1200" spc="-1" strike="noStrike">
                <a:solidFill>
                  <a:srgbClr val="c00000"/>
                </a:solidFill>
                <a:latin typeface="Bookman Old Style"/>
              </a:rPr>
              <a:t>Топилина С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7D94-F834-46FC-9ECA-69B94237C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Рисунок 14" descr="13..png"/>
          <p:cNvPicPr/>
          <p:nvPr/>
        </p:nvPicPr>
        <p:blipFill>
          <a:blip r:embed="rId6"/>
          <a:stretch/>
        </p:blipFill>
        <p:spPr>
          <a:xfrm>
            <a:off x="1187280" y="5805360"/>
            <a:ext cx="6350040" cy="1052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12" descr="13..jpg"/>
          <p:cNvPicPr/>
          <p:nvPr/>
        </p:nvPicPr>
        <p:blipFill>
          <a:blip r:embed="rId7"/>
          <a:stretch/>
        </p:blipFill>
        <p:spPr>
          <a:xfrm>
            <a:off x="3635280" y="5445000"/>
            <a:ext cx="1413000" cy="141300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15" descr="20..jpg"/>
          <p:cNvPicPr/>
          <p:nvPr/>
        </p:nvPicPr>
        <p:blipFill>
          <a:blip r:embed="rId8"/>
          <a:srcRect l="37405" t="25437" r="24800" b="25437"/>
          <a:stretch/>
        </p:blipFill>
        <p:spPr>
          <a:xfrm>
            <a:off x="7845480" y="0"/>
            <a:ext cx="129852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03280" y="404640"/>
            <a:ext cx="71755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ди!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уда сердца стучатся,-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ТЕ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ою ценой завоевано счастье,-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луйста,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ТЕ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6084720" y="0"/>
            <a:ext cx="1584360" cy="132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2836139-a62eb246f0b74492.png"/>
          <p:cNvPicPr/>
          <p:nvPr/>
        </p:nvPicPr>
        <p:blipFill>
          <a:blip r:embed="rId2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187280" y="333360"/>
            <a:ext cx="7499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Матвей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в Ив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Филипп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Иван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Ефим Филипп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Иосиф Ники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дких Ива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дких Николай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отов Кузьма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воров Стефан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воров Михаил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евцев Тимоф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воров Пет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отов Михаил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евцев Михаил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отов Михаил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дких Иван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дких Иосиф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евцев Петр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дких Федор 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619280" y="333360"/>
            <a:ext cx="706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евцев Тихо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воров Васил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воров Ива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воров Михаил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рмашов Федор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дких Иван Ант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сев Иосиф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нчаров Влас Анис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бачев Максим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гин Петр Александ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7354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рмашов Митроф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евцев Алексей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евцев Василий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евцев Михаил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ращенко Дмитрий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отов Максим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отов Филипп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вшин Васил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отов Тимоф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идов Григорий Ег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76000" y="259920"/>
            <a:ext cx="7210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идов Пантелей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идов Алексей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идов Василий Ег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идов Яков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мов Тихо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мов Игнат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мов Григорий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ньшин Иван Макс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гтярев Артем Кас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гтярев Константин Кас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58560" y="333000"/>
            <a:ext cx="7427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некин Ефим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некин Васили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встратов Дмитрий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аков Иван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аков Александр 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ременко Иван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ременко Андрей Матв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аков Михаил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аков Иван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аков Григорий 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встратов Серг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аков Михаил 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пифанов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пифанов Иван Дан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уков Иван Емел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уков Иван Архип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тинев Семе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данов Егор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горуйко Алексей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ых Серг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58560" y="259920"/>
            <a:ext cx="7427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ых Андрей Сер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рецкий Иван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рецкий Федор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ых Семен Тро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ых Никифор Тро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рецких Семен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ягинцев Александр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натенко Ива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натенко Петр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Егор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7354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Федор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Николай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Михаил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рзунов Григорий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рзунов Семен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якин Григорий Прох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якин Максим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ынин Григор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якина Александра Вас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устин Василий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76000" y="333360"/>
            <a:ext cx="7210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устин Иван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ынин Андре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ртников Тимоф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ртников Петр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дыров Абраам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ынин Василий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ынин Степа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Иван Константи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овалов Его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Василий Филипп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58920" y="2205000"/>
            <a:ext cx="705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ЕЧНАЯ ПАМЯТЬ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инам,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погибшим в годы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03236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User\Desktop\2836139-a62eb246f0b74492.png"/>
          <p:cNvPicPr/>
          <p:nvPr/>
        </p:nvPicPr>
        <p:blipFill>
          <a:blip r:embed="rId2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16000" y="333360"/>
            <a:ext cx="7570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Стефан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ртников Антон Варфалом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бзарев Роман Осип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устин Павел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якин Петр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ртников Ив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четов Семен Кузьм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валев Никола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валев Андрей 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риллов Григорий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499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юков Андрей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Михаил Дан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Пантелей Дан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устин Андр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устин Васил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ртников Андрей Варфалом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ынин Иван Ег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Ив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якин Тимофей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ынин Павел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7354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мынин Федо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Григорий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Иван Иллари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вцов Александр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валев Иван Дан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оногих Евдоким Сер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кунов Егор Дан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бединский Гаврил Ники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бединский Василий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Васили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7280" y="404280"/>
            <a:ext cx="7499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Ив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Петр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Тихон Емел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Никола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Андр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Петр Прох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Григорий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Михаил Кузьм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Михаил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Егор Степ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333360"/>
            <a:ext cx="7283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патин Васил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сников Иван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ргунов Евдоким Дан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зыкантов Иван Игна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лодых Андрей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лодых Александра Стеф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ошников Иван Арте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ведев Федор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ведева Варвара Тихо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лчанов Тихо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лчанов Михаил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лчанов Яков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ошников Федор Емел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зыкантов Максим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исеенко Никола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слов Леон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инкин Иван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ргунов Иван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ргунов Михаил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ргунов Егор Дан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570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исеенко Андрей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исеенко Стефан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знецов Иван Кузьм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Василий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Федо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Серге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Павел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Васил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Иван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Дмитрий Заха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3280" y="404640"/>
            <a:ext cx="7283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тругин Иван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итин Владимир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итин Михаил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рызков Василий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нев Семен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лейников Иосиф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рызков Григор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нев Александр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лейников Иван 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нев Иосиф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58560" y="333000"/>
            <a:ext cx="7427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нев Дмитрий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нев Никита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влов Иван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влов Григорий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пов Ефим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цев Дмитрий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копов Ива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пов Петр Кузьм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копов Иван Матв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влов Митрофан Ег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560" y="259920"/>
            <a:ext cx="7427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пиков Николай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авлов Михаил Ак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опов Гаврил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опов Михаил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пов Илья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пов Кузьма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опенко Порфирий Сер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лейников Иосиф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кусаев Яков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пов Ефим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547640" y="549360"/>
            <a:ext cx="51721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504d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41 -1945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504d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529080" cy="164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User\Desktop\2836139-a62eb246f0b74492.png"/>
          <p:cNvPicPr/>
          <p:nvPr/>
        </p:nvPicPr>
        <p:blipFill>
          <a:blip r:embed="rId3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7280" y="33336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влов Стефан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влов Иван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влов Лука Ак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пов Григорий Сер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санов Иван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санов Василий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жов Антон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китянский Никифор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маненко Ефим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санов Дмитрий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499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банов Пет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санов Стефан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ябинин Андрей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вин Митрофа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вин Алексей Кондра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жов Петр Ант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жов Антон Ант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одубцев Федор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йленко Егор Иль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йленко Игнат Иль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03280" y="476280"/>
            <a:ext cx="7283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ычев Митрофан А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ычев Сергей А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одубцев Николай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Тихон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Михаил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Андрей Карп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Филипп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Михаил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Федор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Семен Пантел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Никифор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нжаровский Филипп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одубцев Иван Лук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одубцев Анто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одубцев Тихон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одубцев Петр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одубцев Ив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йленко Васил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йленко Сергей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йленко Яков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32000" y="404640"/>
            <a:ext cx="7354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слов Павел Емел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ломкин Иван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ценко Иван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ценко Василий Ег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ценко Николай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ков Константин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ков Павел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ков Тимофей Матв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ков Иосиф Матв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ков Петр Архип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139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Семе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Петр Ак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Иван Иосиф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Ефим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Федор Наза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Григорий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Петр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Василий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качев Тимофей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юрин Василий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403280" y="260280"/>
            <a:ext cx="7283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юрин Александр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юрин Николай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пезников Василий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пезников Петр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пезников Роман Александ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унов Алексе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унов Тимофе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липцев Васил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липцев Иван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менко Андрей Иосиф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03280" y="333360"/>
            <a:ext cx="7283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Иван Леон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Макар Леон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Михаил Леон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Тихон Леон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Григор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Михаил Филипп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Михаил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Михаил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Федор Никит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лодов Антон Никит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7354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Никита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Павел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Федор Ники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Антон Ники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Филипп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Павел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а Ульяна Фед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Илья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Иван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ов Сергей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32000" y="333000"/>
            <a:ext cx="7354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ромых Тимофе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щенко Алекс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щенко Данил Константи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щенко Аким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дыкин Алекс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рламов Иван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Петр Саве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Федор Саве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Михаил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Стефан Заха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63280" y="404640"/>
            <a:ext cx="705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Федор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Васили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Егор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Иван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Федор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Федор Федорови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Федор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улов Василий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ганцев Иван Александ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рафанов Николай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7280" y="33336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Ефим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Семен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Иван Парф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Тихон Парф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Тимофей Никиф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млов Илья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хов Пет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хов Андрей Ели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едниченко Егор Роди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едниченко Яков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32000" y="333000"/>
            <a:ext cx="7354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нышов Данил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нышов Стефан Сте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андрук Иван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абалатов Филипп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абалатов Серге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абалатов Иван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ырев Филипп Тимоф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ырев Михаил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ырев Стефа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ырев Петр Ант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47280" y="980640"/>
            <a:ext cx="7139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ырев Петр Прокоф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ырев Филипп Тро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ляков Николай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вляков Митроф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илов Дмитрий Никиф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ульгин Федор Иль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ковлев Петр Ак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547640" y="549360"/>
            <a:ext cx="51721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504d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41 -1945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504d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529080" cy="1644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User\Desktop\2836139-a62eb246f0b74492.png"/>
          <p:cNvPicPr/>
          <p:nvPr/>
        </p:nvPicPr>
        <p:blipFill>
          <a:blip r:embed="rId3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551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User\Desktop\2836139-a62eb246f0b74492.png"/>
          <p:cNvPicPr/>
          <p:nvPr/>
        </p:nvPicPr>
        <p:blipFill>
          <a:blip r:embed="rId2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03280" y="260280"/>
            <a:ext cx="7283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Алекс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Михаил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Федо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Афанаси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Тимоф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ван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усов Никита Емел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усов Иван Емел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ван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осиф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58560" y="259920"/>
            <a:ext cx="7427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Петр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жников Андр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жников Трофим Пет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бичев Иван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бичев Стефан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ганцев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ев Василий Ег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ван Игна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ев Андрей Леон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Серге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210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гуров Стефан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ван Сер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Алексей Ег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Василий 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рзенко Василий Никиф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ев Михаил Леон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ранов Григорий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ван Емелья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рзенко Герасим Никит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ван Роди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47640" y="404280"/>
            <a:ext cx="71503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гуров Филипп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гуров Никифор Митроф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гуров Илья Ант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гуров Андрей Степ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жников Федот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Петр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Трофим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улин Иван Борис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ева Варвара Вас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ев Ефим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63280" y="404640"/>
            <a:ext cx="6923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Иван Степ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сотенко Ива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Серге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Васил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Петр Григор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тутин Иван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тутин Василий Гаври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Николай Никиф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Федор Тих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кодавов Тихон Тар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C:\Users\User\Desktop\2836139-a62eb246f0b74492.png"/>
          <p:cNvPicPr/>
          <p:nvPr/>
        </p:nvPicPr>
        <p:blipFill>
          <a:blip r:embed="rId1"/>
          <a:stretch/>
        </p:blipFill>
        <p:spPr>
          <a:xfrm>
            <a:off x="468360" y="5734080"/>
            <a:ext cx="1800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9:17:25Z</dcterms:created>
  <dc:creator>Cветлана</dc:creator>
  <dc:description/>
  <dc:language>en-US</dc:language>
  <cp:lastModifiedBy>Admin</cp:lastModifiedBy>
  <dcterms:modified xsi:type="dcterms:W3CDTF">2015-05-07T08:58:23Z</dcterms:modified>
  <cp:revision>16</cp:revision>
  <dc:subject/>
  <dc:title>Слайд 1</dc:title>
</cp:coreProperties>
</file>